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10.jpeg" ContentType="image/jpeg"/>
  <Override PartName="/ppt/media/image30.png" ContentType="image/png"/>
  <Override PartName="/ppt/media/image29.jpeg" ContentType="image/jpeg"/>
  <Override PartName="/ppt/media/image5.png" ContentType="image/png"/>
  <Override PartName="/ppt/media/image43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8.jpeg" ContentType="image/jpeg"/>
  <Override PartName="/ppt/media/image44.jpeg" ContentType="image/jpeg"/>
  <Override PartName="/ppt/media/image42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7.png" ContentType="image/pn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6.jpeg" ContentType="image/jpeg"/>
  <Override PartName="/ppt/media/image27.jpeg" ContentType="image/jpeg"/>
  <Override PartName="/ppt/media/image40.jpeg" ContentType="image/jpeg"/>
  <Override PartName="/ppt/media/image1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A93F-62CA-4915-8126-C0C939468E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884C-6113-4896-8692-AAE3E32C0C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E97C-1D7A-4AF9-B95F-027F869890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giene/Maintenance Factor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asic animal nee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vational Factor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uman’s ability to grow psychologic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giene Factors must be satisfied, if not, it is a de-motiv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82F0-F2D5-40A7-B2E2-996CD1AAD1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Wo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e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ay for necessities &amp; some luxu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urit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ense of security &amp; being sa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likely to lose your jo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 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Feeling part of a group or organ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eting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friends at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eem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feeling of impor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gnition in your jo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b Satisfacti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Enjoyment in doing a job wel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CBD9-DD05-4800-9A3B-88D48312B3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reason for wor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s incen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courages harder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 more effectivel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FFC8-8C91-4C24-8611-EB052C07E6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d on quantity produ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ey ma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ey are pa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 Rate + Additional Mon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get Output S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able outp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viduals / Te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3457-07F0-400B-BFC7-8707453B26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courages wor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 ha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 more outp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7D52-9CD7-4719-BFE6-694ECD1DEF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d Month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 Account / Not in C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ice Workers / Mana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-collar Wor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07C8-EC2A-4268-A87E-AA8B2C6844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ommiss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ales Staf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asic Pay each mont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xtra pay based on sal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sually calculated as a percentage of sal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ore Sales, More Mone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alibri"/>
              </a:rPr>
              <a:t>Advantage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More Sal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ore Profi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ncourage Sales Staff to Sell Mo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ore Persuasive to Customers to buy mo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hort-Term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alibri"/>
              </a:rPr>
              <a:t>Disadvantages  </a:t>
            </a:r>
            <a:r>
              <a:rPr b="1" i="1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ustomers buy what they don’t want buy by persuasive sales peop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ad Reput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Long-Term Damag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alling Sale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ales Poor -  Paid Les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rofit-Shar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dditional Money on top of Basic Salar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uccessful Busines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onuses Pai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ortion of Profits Shar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Quarterly, Half-yearly, Yearl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rofit Alloc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ividend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-invest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rofit-Shar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on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Lump Su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aid to Worker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orked Wel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aid if the business is successfu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nd of Yea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terval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erformance-Related Pa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Level of Effectivenes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se Increas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sed where output cannot be measure</a:t>
            </a:r>
            <a:r>
              <a:rPr b="0" lang="en-AU" sz="11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olice Officer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eacher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anager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ealth Care Worker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A2B6-AD1D-43EE-AC58-CBF9DB6F61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0667-1954-413D-8A09-B731320251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BDB8-C279-4346-AE1F-7F8A23D594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D3A2-C8BE-4A8C-8A9D-014E897FBD3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71FA-5B5F-4962-8B85-D2D0C2C0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0263-92A5-47F7-8A7C-3067C7BC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4E49-2627-42AE-92E9-D70F6692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F3A3-9CC1-4CCD-A9BA-3F05815E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B5FF-BA82-4AC2-84D5-6FC62071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41CF-E8C9-4EF3-BC49-C09DD74F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F5C1-397E-4D87-A25B-16A48D8E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7C63-3ECD-4F1B-92C3-C355B002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FA14-9D8A-4E24-96F2-16D7303D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23F8-DC1E-4045-8EA6-2DB43B53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D384-7CCF-4A09-8B58-8B231945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F560-C13F-40AA-AE36-EDC755F3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4CE0-E2CF-4C92-A639-86800F60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A9D4-F617-41BD-ABE1-855C3D61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BD39-1814-4DD9-99AC-D1F3BB0A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D021-1ED4-4C67-BE17-F7EF0BF3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3920-0C06-406C-8CDD-D1A644725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45DCE-F458-4F45-9563-2181897E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771CE-CA9C-4EBA-A4C4-A5DF33EC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F72B6-93B4-47F9-BEE7-4EF11836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F23D3-DCD5-430D-8E4C-86FB065C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6BEF7-9352-4E40-A1E9-E51091CE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193F-4611-4F67-A8B4-A1CE16E3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8ADAA-6639-4600-8C7C-39F911F0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B5CB6-316E-4FA4-BBCF-C2E7DCD2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EEFB1-6A0F-4296-AF87-5C7CCB3D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03AD9-9642-4738-9BB5-AF0D08D4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DD029-2413-4ADA-B16B-01949613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73507-2D1D-4EAF-BEC7-C344680F8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F5BF3-890B-4AAC-88B2-956F74857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6C9EB-4075-4A56-ABB8-492270314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4073F-9705-4D86-83BC-56228EA5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E0526-34F7-498B-BF1C-3A26823A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E1D1-69C7-437C-B846-733B3354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EB42C-EAD8-4B70-9AC0-E0DBAAF9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96508-0D1B-4FD5-A1AD-AF9C9789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51C56-2482-4FAD-B92B-CEC289BE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FB94C-1B4B-4CFD-AAE1-A238D492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6EEEE-E0AD-4216-8E96-F9658B53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D2DF6-A02F-440A-9DB2-9C38F0A4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48B1F-5EF1-4270-87ED-0C29516D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D8FE6-9CB1-4EA9-876F-2E253494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F6029-0816-414C-8129-6F5FD56DA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CFB14-4E3B-471F-AE46-336AF43B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7581-0FE9-41E2-9928-2030A1A6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DC449-726A-4DCA-B5E0-A1BD3BB8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0D5BA-5482-43C6-89BF-5F993070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20462-C202-4431-B62A-6E12B183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0A66E-2016-4962-8CA2-05E045FB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0D5D8-A049-4BC3-A32C-E7F1F5CA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F3870-EB7F-4D0F-AC6A-D791E7C6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7F82B-789D-4A58-BBEF-2A3D6F52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B270B-B7B8-4CA9-8D38-2A1CB454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88445-7696-4185-BB3E-6815C65C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8409A-B75C-4411-A680-118088A8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F052-3219-4B31-A7F0-90B70C0A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D6BFA-7D08-4586-ABE2-C3328B0C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FE13C-E1B6-4C27-AAF0-6CAF85C0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1343A-EE9B-4BD5-89E3-0FED1951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AF3AE-A164-4DD9-B18B-C6E70CE6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9060E-0008-4151-ABA7-B243B437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EC4B1-B97F-4940-9AA2-0A0F6AC7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99A1F-C216-41A2-A66A-103B7586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93521-1CA9-4598-841F-CEBF3F5F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C39F4-045D-49DA-A441-0F0995E6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B7464-FE77-482F-A4CB-D5E11C0C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4C4F-0D4F-41E4-BA7F-F07C8D65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A52B3-A215-400B-B634-9DF54B6D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A0437-734C-46B9-A263-5CE69BA5F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406EC-4320-4E85-8DD9-E5BC76325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5C392-9B90-4903-BAD9-F7A5A376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7A32B-3DC9-4C7D-A40A-ECD93801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934C5-88A0-4511-89DB-6641CB26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CB70E-82EF-4A71-A4B9-CCDAFCC1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6D482-CF34-4D40-B802-51776F33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17651-2483-4C2A-8B0E-78721CDE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3EC10-AD6C-48CF-8E3D-7A89218C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8FF9-5901-49FF-BEE5-08170071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D4ABF-70E5-440A-B727-242053B1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3D1EB-2BBD-4CB7-A6A0-80331529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E188B-3C9B-4149-A360-D1778083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EBA23-C814-451C-80D1-96ED0D37B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EA5AA-E16C-443B-83AB-6DD6AA058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DA16-2440-4AC9-AFB4-841AC39E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BB43-99E7-4B43-9C87-62FFB527F42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F8E8-FAB8-4B7B-8146-DA9942A0088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3C94-7BAC-481D-863B-1702C4BD7BA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3375-FE59-43DC-A4EB-7C7C3AE1E5D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4531-02B3-4942-98FE-A844A2BDE86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D3C9-3633-408C-8C61-8EF2B8BF805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22E6-6A94-4D22-90A8-92721FDBD4B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Frederick_Winslow_Taylor_crop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Frederick_Winslow_Taylor_crop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250960" y="27432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Motivation at 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      Work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61760" y="2487240"/>
            <a:ext cx="817236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act of giving somebody a reason or incentive to do someth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feeling of enthusiasm, interest, or commitment that makes somebody want to do something, or something that causes such a feel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7" name="Picture 5" descr="http://2.bp.blogspot.com/_U6uZiQxa3_U/Suij82mIagI/AAAAAAAABEI/MK6laCl2kzk/s320/motivation.gif"/>
          <p:cNvPicPr/>
          <p:nvPr/>
        </p:nvPicPr>
        <p:blipFill>
          <a:blip r:embed="rId1"/>
          <a:stretch/>
        </p:blipFill>
        <p:spPr>
          <a:xfrm>
            <a:off x="393840" y="27000"/>
            <a:ext cx="485748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aslow’s Hierarchy of Needs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63" name="Content Placeholder 3" descr=""/>
          <p:cNvPicPr/>
          <p:nvPr/>
        </p:nvPicPr>
        <p:blipFill>
          <a:blip r:embed="rId1"/>
          <a:stretch/>
        </p:blipFill>
        <p:spPr>
          <a:xfrm>
            <a:off x="1133640" y="1359000"/>
            <a:ext cx="4975200" cy="5286240"/>
          </a:xfrm>
          <a:prstGeom prst="rect">
            <a:avLst/>
          </a:prstGeom>
          <a:ln w="0">
            <a:noFill/>
          </a:ln>
        </p:spPr>
      </p:pic>
      <p:sp>
        <p:nvSpPr>
          <p:cNvPr id="364" name="TextBox 4"/>
          <p:cNvSpPr/>
          <p:nvPr/>
        </p:nvSpPr>
        <p:spPr>
          <a:xfrm>
            <a:off x="6477120" y="5754600"/>
            <a:ext cx="2514600" cy="642600"/>
          </a:xfrm>
          <a:prstGeom prst="rect">
            <a:avLst/>
          </a:prstGeom>
          <a:noFill/>
          <a:ln w="38160">
            <a:solidFill>
              <a:srgbClr val="6116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ages high enough to cover b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5"/>
          <p:cNvSpPr/>
          <p:nvPr/>
        </p:nvSpPr>
        <p:spPr>
          <a:xfrm>
            <a:off x="5943600" y="4811760"/>
            <a:ext cx="2514600" cy="368280"/>
          </a:xfrm>
          <a:prstGeom prst="rect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Job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6"/>
          <p:cNvSpPr/>
          <p:nvPr/>
        </p:nvSpPr>
        <p:spPr>
          <a:xfrm>
            <a:off x="5334120" y="3697200"/>
            <a:ext cx="2590560" cy="64260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upport from work colleag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7"/>
          <p:cNvSpPr/>
          <p:nvPr/>
        </p:nvSpPr>
        <p:spPr>
          <a:xfrm>
            <a:off x="4800600" y="2554200"/>
            <a:ext cx="2514600" cy="6426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ecognized for your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8"/>
          <p:cNvSpPr/>
          <p:nvPr/>
        </p:nvSpPr>
        <p:spPr>
          <a:xfrm>
            <a:off x="4419720" y="1563840"/>
            <a:ext cx="2590560" cy="91692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omotions &amp; increased 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Straight Arrow Connector 10"/>
          <p:cNvCxnSpPr/>
          <p:nvPr/>
        </p:nvCxnSpPr>
        <p:spPr>
          <a:xfrm>
            <a:off x="4038120" y="1828800"/>
            <a:ext cx="305640" cy="216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370" name="Straight Arrow Connector 11"/>
          <p:cNvCxnSpPr/>
          <p:nvPr/>
        </p:nvCxnSpPr>
        <p:spPr>
          <a:xfrm>
            <a:off x="4419720" y="2894040"/>
            <a:ext cx="305280" cy="216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arrow" w="med"/>
          </a:ln>
        </p:spPr>
      </p:cxnSp>
      <p:cxnSp>
        <p:nvCxnSpPr>
          <p:cNvPr id="371" name="Straight Arrow Connector 12"/>
          <p:cNvCxnSpPr/>
          <p:nvPr/>
        </p:nvCxnSpPr>
        <p:spPr>
          <a:xfrm>
            <a:off x="4876920" y="3960360"/>
            <a:ext cx="305280" cy="252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2" name="Straight Arrow Connector 13"/>
          <p:cNvCxnSpPr/>
          <p:nvPr/>
        </p:nvCxnSpPr>
        <p:spPr>
          <a:xfrm>
            <a:off x="5486040" y="5027760"/>
            <a:ext cx="305640" cy="216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373" name="Straight Arrow Connector 14"/>
          <p:cNvCxnSpPr/>
          <p:nvPr/>
        </p:nvCxnSpPr>
        <p:spPr>
          <a:xfrm>
            <a:off x="6019920" y="6095520"/>
            <a:ext cx="305280" cy="2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74" name="TextBox 2"/>
          <p:cNvSpPr/>
          <p:nvPr/>
        </p:nvSpPr>
        <p:spPr>
          <a:xfrm>
            <a:off x="762120" y="213840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top two are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higher-order needs.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9"/>
          <p:cNvSpPr/>
          <p:nvPr/>
        </p:nvSpPr>
        <p:spPr>
          <a:xfrm>
            <a:off x="457200" y="3933720"/>
            <a:ext cx="152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first three are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lower-order need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5"/>
          <p:cNvSpPr/>
          <p:nvPr/>
        </p:nvSpPr>
        <p:spPr>
          <a:xfrm>
            <a:off x="457200" y="3327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3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Herzberg  -  Two-Factor Theory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040" y="144756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. 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Hygiene factors-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lary and security. Improving these lowers dissatisfaction but doesn't improve motivation or satisfaction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2. 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Motivators-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recognition, responsibility, work itself, achievement, advancement - these lead to increased motivation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3060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erzberg – Human Need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rcRect l="0" t="11203" r="0" b="16804"/>
          <a:stretch/>
        </p:blipFill>
        <p:spPr>
          <a:xfrm>
            <a:off x="1447920" y="1523880"/>
            <a:ext cx="7302240" cy="52578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6858000" y="1676520"/>
            <a:ext cx="1612800" cy="2008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"/>
          <p:cNvPicPr/>
          <p:nvPr/>
        </p:nvPicPr>
        <p:blipFill>
          <a:blip r:embed="rId3"/>
          <a:stretch/>
        </p:blipFill>
        <p:spPr>
          <a:xfrm>
            <a:off x="1523880" y="4572000"/>
            <a:ext cx="161316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y do people work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TextBox 4"/>
          <p:cNvSpPr/>
          <p:nvPr/>
        </p:nvSpPr>
        <p:spPr>
          <a:xfrm>
            <a:off x="3733920" y="3505320"/>
            <a:ext cx="2819160" cy="106884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5"/>
          <p:cNvSpPr/>
          <p:nvPr/>
        </p:nvSpPr>
        <p:spPr>
          <a:xfrm>
            <a:off x="1828800" y="1676520"/>
            <a:ext cx="20574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7"/>
          <p:cNvSpPr/>
          <p:nvPr/>
        </p:nvSpPr>
        <p:spPr>
          <a:xfrm>
            <a:off x="6629400" y="1600200"/>
            <a:ext cx="205740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8"/>
          <p:cNvSpPr/>
          <p:nvPr/>
        </p:nvSpPr>
        <p:spPr>
          <a:xfrm>
            <a:off x="990720" y="5486400"/>
            <a:ext cx="2057400" cy="94716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oc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9"/>
          <p:cNvSpPr/>
          <p:nvPr/>
        </p:nvSpPr>
        <p:spPr>
          <a:xfrm>
            <a:off x="4038480" y="5495760"/>
            <a:ext cx="2057400" cy="9471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steem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0"/>
          <p:cNvSpPr/>
          <p:nvPr/>
        </p:nvSpPr>
        <p:spPr>
          <a:xfrm>
            <a:off x="6934320" y="5495760"/>
            <a:ext cx="2133360" cy="9471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Job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Straight Arrow Connector 12"/>
          <p:cNvCxnSpPr/>
          <p:nvPr/>
        </p:nvCxnSpPr>
        <p:spPr>
          <a:xfrm flipH="1" flipV="1">
            <a:off x="2894760" y="2285280"/>
            <a:ext cx="1600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2" name="Straight Arrow Connector 14"/>
          <p:cNvCxnSpPr/>
          <p:nvPr/>
        </p:nvCxnSpPr>
        <p:spPr>
          <a:xfrm flipV="1">
            <a:off x="6400800" y="2208960"/>
            <a:ext cx="12960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3" name="Straight Arrow Connector 16"/>
          <p:cNvCxnSpPr/>
          <p:nvPr/>
        </p:nvCxnSpPr>
        <p:spPr>
          <a:xfrm flipH="1">
            <a:off x="1904760" y="4342320"/>
            <a:ext cx="175320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4" name="Straight Arrow Connector 19"/>
          <p:cNvCxnSpPr/>
          <p:nvPr/>
        </p:nvCxnSpPr>
        <p:spPr>
          <a:xfrm>
            <a:off x="6629400" y="4343040"/>
            <a:ext cx="144864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5" name="Straight Arrow Connector 23"/>
          <p:cNvCxnSpPr/>
          <p:nvPr/>
        </p:nvCxnSpPr>
        <p:spPr>
          <a:xfrm flipH="1">
            <a:off x="5103000" y="4647960"/>
            <a:ext cx="396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otivating Factor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onetary Reward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n-Monetary Reward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Job Satisfac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onetary Reward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434960" y="1447920"/>
            <a:ext cx="4889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0" name="Picture 2" descr="http://blog.kir.com/archives/images/money.jpg"/>
          <p:cNvPicPr/>
          <p:nvPr/>
        </p:nvPicPr>
        <p:blipFill>
          <a:blip r:embed="rId1"/>
          <a:stretch/>
        </p:blipFill>
        <p:spPr>
          <a:xfrm>
            <a:off x="6858000" y="3049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http://www.digital-digest.com/blog/DVDGuy/wp-content/uploads/2007/11/img_money.jpg"/>
          <p:cNvPicPr/>
          <p:nvPr/>
        </p:nvPicPr>
        <p:blipFill>
          <a:blip r:embed="rId2"/>
          <a:stretch/>
        </p:blipFill>
        <p:spPr>
          <a:xfrm>
            <a:off x="4762440" y="2158920"/>
            <a:ext cx="4191120" cy="3772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http://www.sovaleather.com/E717back.jpg"/>
          <p:cNvPicPr/>
          <p:nvPr/>
        </p:nvPicPr>
        <p:blipFill>
          <a:blip r:embed="rId3"/>
          <a:srcRect l="10231" t="0" r="0" b="0"/>
          <a:stretch/>
        </p:blipFill>
        <p:spPr>
          <a:xfrm rot="19716000">
            <a:off x="1593360" y="1844640"/>
            <a:ext cx="2907000" cy="283860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3"/>
          <p:cNvSpPr/>
          <p:nvPr/>
        </p:nvSpPr>
        <p:spPr>
          <a:xfrm>
            <a:off x="3111480" y="5234040"/>
            <a:ext cx="146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2314"/>
                </a:solidFill>
                <a:latin typeface="Arial"/>
              </a:rPr>
              <a:t>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1434600" y="1447560"/>
            <a:ext cx="5194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ime Ra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akes ti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ood/bad workers paid the sa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re supervision need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stly / Expensi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stant supervision need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duction amounts &amp; qua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ocking in syste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age Calcul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06" name="Picture 2" descr="http://kara.allthingsd.com/files/2008/05/thumbs-down.jpg"/>
          <p:cNvPicPr/>
          <p:nvPr/>
        </p:nvPicPr>
        <p:blipFill>
          <a:blip r:embed="rId1"/>
          <a:stretch/>
        </p:blipFill>
        <p:spPr>
          <a:xfrm>
            <a:off x="5934240" y="76320"/>
            <a:ext cx="3057480" cy="28670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http://img176.echo.cx/img176/1909/minibundy9uv.jpg"/>
          <p:cNvPicPr/>
          <p:nvPr/>
        </p:nvPicPr>
        <p:blipFill>
          <a:blip r:embed="rId2"/>
          <a:stretch/>
        </p:blipFill>
        <p:spPr>
          <a:xfrm>
            <a:off x="6705720" y="3429000"/>
            <a:ext cx="20955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age Calcul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434960" y="1447560"/>
            <a:ext cx="53467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Piece Ra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0" name="Picture 4" descr="http://www.lakewoodconferences.com/direct/dbimage/50315829/Color_Sponge_Rubber_Balls.jpg"/>
          <p:cNvPicPr/>
          <p:nvPr/>
        </p:nvPicPr>
        <p:blipFill>
          <a:blip r:embed="rId1"/>
          <a:stretch/>
        </p:blipFill>
        <p:spPr>
          <a:xfrm>
            <a:off x="1219320" y="2362320"/>
            <a:ext cx="3733560" cy="37335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http://static.howstuffworks.com/gif/eg-flying-v-paul.jpg"/>
          <p:cNvPicPr/>
          <p:nvPr/>
        </p:nvPicPr>
        <p:blipFill>
          <a:blip r:embed="rId2"/>
          <a:stretch/>
        </p:blipFill>
        <p:spPr>
          <a:xfrm>
            <a:off x="4960800" y="1523880"/>
            <a:ext cx="41832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age Calcul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434960" y="1447920"/>
            <a:ext cx="5346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Piece Ra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Gill Sans MT"/>
              </a:rPr>
              <a:t>Advantages &amp; Disadvantag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761760" indent="-196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4" name="Picture 2" descr="http://www.haitian.com/files/production-output-(units).jpg"/>
          <p:cNvPicPr/>
          <p:nvPr/>
        </p:nvPicPr>
        <p:blipFill>
          <a:blip r:embed="rId1"/>
          <a:srcRect l="0" t="0" r="0" b="4014"/>
          <a:stretch/>
        </p:blipFill>
        <p:spPr>
          <a:xfrm>
            <a:off x="5867280" y="3809880"/>
            <a:ext cx="3124440" cy="28609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http://farm3.static.flickr.com/2064/1888133087_bfc5c3218b_o.jpg"/>
          <p:cNvPicPr/>
          <p:nvPr/>
        </p:nvPicPr>
        <p:blipFill>
          <a:blip r:embed="rId2"/>
          <a:stretch/>
        </p:blipFill>
        <p:spPr>
          <a:xfrm>
            <a:off x="1295280" y="2971800"/>
            <a:ext cx="4173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alari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434960" y="1447560"/>
            <a:ext cx="4432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8" name="Picture 4" descr="http://i.ehow.com/images/GlobalPhoto/Articles/2109514/calendar-main_Full.jpg"/>
          <p:cNvPicPr/>
          <p:nvPr/>
        </p:nvPicPr>
        <p:blipFill>
          <a:blip r:embed="rId1"/>
          <a:stretch/>
        </p:blipFill>
        <p:spPr>
          <a:xfrm>
            <a:off x="5943600" y="3200400"/>
            <a:ext cx="2911320" cy="33526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http://www.autoblog.com/media/2006/05/business_suit02.gif"/>
          <p:cNvPicPr/>
          <p:nvPr/>
        </p:nvPicPr>
        <p:blipFill>
          <a:blip r:embed="rId2"/>
          <a:stretch/>
        </p:blipFill>
        <p:spPr>
          <a:xfrm>
            <a:off x="1371600" y="1600200"/>
            <a:ext cx="434340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y do people work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295280" y="1447560"/>
            <a:ext cx="7639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Money is probably at the top of your list!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Earn money to buy food and the basic necessities for life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0" name="Picture 2" descr="http://pro.corbis.com/images/42-17154044.jpg?size=572&amp;uid=%7BA6F85DBF-F0DE-4F35-B96B-193DCB9D04D6%7D"/>
          <p:cNvPicPr/>
          <p:nvPr/>
        </p:nvPicPr>
        <p:blipFill>
          <a:blip r:embed="rId1"/>
          <a:stretch/>
        </p:blipFill>
        <p:spPr>
          <a:xfrm>
            <a:off x="2590920" y="3276720"/>
            <a:ext cx="46479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alary Calcul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arly Income / 1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tra Wor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clud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ually not paid f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lculated once a mont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andard Ra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t amount of mone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asic Sala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2" name="Picture 4" descr="http://i.ehow.com/images/GlobalPhoto/Articles/2109514/calendar-main_Full.jpg"/>
          <p:cNvPicPr/>
          <p:nvPr/>
        </p:nvPicPr>
        <p:blipFill>
          <a:blip r:embed="rId1"/>
          <a:stretch/>
        </p:blipFill>
        <p:spPr>
          <a:xfrm>
            <a:off x="6262560" y="714240"/>
            <a:ext cx="2424240" cy="27910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http://www.manageyourpayroll.co.uk/images/payslip2_large.jpg"/>
          <p:cNvPicPr/>
          <p:nvPr/>
        </p:nvPicPr>
        <p:blipFill>
          <a:blip r:embed="rId2"/>
          <a:stretch/>
        </p:blipFill>
        <p:spPr>
          <a:xfrm>
            <a:off x="5410080" y="4343400"/>
            <a:ext cx="3578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alary Reward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5" name="TextBox 5"/>
          <p:cNvSpPr/>
          <p:nvPr/>
        </p:nvSpPr>
        <p:spPr>
          <a:xfrm>
            <a:off x="3733920" y="3505320"/>
            <a:ext cx="2819160" cy="106884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alary Re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6"/>
          <p:cNvSpPr/>
          <p:nvPr/>
        </p:nvSpPr>
        <p:spPr>
          <a:xfrm>
            <a:off x="1828800" y="1676520"/>
            <a:ext cx="205740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7"/>
          <p:cNvSpPr/>
          <p:nvPr/>
        </p:nvSpPr>
        <p:spPr>
          <a:xfrm>
            <a:off x="6629400" y="1600200"/>
            <a:ext cx="205740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Bo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8"/>
          <p:cNvSpPr/>
          <p:nvPr/>
        </p:nvSpPr>
        <p:spPr>
          <a:xfrm>
            <a:off x="990720" y="5486400"/>
            <a:ext cx="2057400" cy="94716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fit 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9"/>
          <p:cNvSpPr/>
          <p:nvPr/>
        </p:nvSpPr>
        <p:spPr>
          <a:xfrm>
            <a:off x="4038480" y="5495760"/>
            <a:ext cx="2057400" cy="13737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Performance Related P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0"/>
          <p:cNvSpPr/>
          <p:nvPr/>
        </p:nvSpPr>
        <p:spPr>
          <a:xfrm>
            <a:off x="6934320" y="5495760"/>
            <a:ext cx="2133360" cy="9471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hare Ow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1" name="Straight Arrow Connector 11"/>
          <p:cNvCxnSpPr/>
          <p:nvPr/>
        </p:nvCxnSpPr>
        <p:spPr>
          <a:xfrm flipH="1" flipV="1">
            <a:off x="2894760" y="2285280"/>
            <a:ext cx="1600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2" name="Straight Arrow Connector 12"/>
          <p:cNvCxnSpPr/>
          <p:nvPr/>
        </p:nvCxnSpPr>
        <p:spPr>
          <a:xfrm flipV="1">
            <a:off x="6400800" y="2208960"/>
            <a:ext cx="12960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3" name="Straight Arrow Connector 13"/>
          <p:cNvCxnSpPr/>
          <p:nvPr/>
        </p:nvCxnSpPr>
        <p:spPr>
          <a:xfrm flipH="1">
            <a:off x="1904760" y="4342320"/>
            <a:ext cx="175320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4" name="Straight Arrow Connector 14"/>
          <p:cNvCxnSpPr/>
          <p:nvPr/>
        </p:nvCxnSpPr>
        <p:spPr>
          <a:xfrm>
            <a:off x="6629400" y="4343040"/>
            <a:ext cx="144864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5" name="Straight Arrow Connector 15"/>
          <p:cNvCxnSpPr/>
          <p:nvPr/>
        </p:nvCxnSpPr>
        <p:spPr>
          <a:xfrm flipH="1">
            <a:off x="5103000" y="4647960"/>
            <a:ext cx="396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n-Monetary Reward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erks / Fringe Benefi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ary – Senior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actory Work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counts on produ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ior Manag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any Ca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u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ense Accou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8" name="Picture 2" descr="http://www.nicholsoncartoons.com.au/cartoons/new/2005-10-11%20Costello%20Turnbull%20tax%20plan%20226.jpg"/>
          <p:cNvPicPr/>
          <p:nvPr/>
        </p:nvPicPr>
        <p:blipFill>
          <a:blip r:embed="rId1"/>
          <a:stretch/>
        </p:blipFill>
        <p:spPr>
          <a:xfrm>
            <a:off x="5943600" y="3505320"/>
            <a:ext cx="3030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n-Monetary Reward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371240" y="1676160"/>
            <a:ext cx="5118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iscounts on Produc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alth Ca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any Vehic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uel Car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ree Accommod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1" name="Picture 2" descr="http://www.nicholsoncartoons.com.au/cartoons/new/2005-10-11%20Costello%20Turnbull%20tax%20plan%20226.jpg"/>
          <p:cNvPicPr/>
          <p:nvPr/>
        </p:nvPicPr>
        <p:blipFill>
          <a:blip r:embed="rId1"/>
          <a:stretch/>
        </p:blipFill>
        <p:spPr>
          <a:xfrm>
            <a:off x="5943600" y="3505320"/>
            <a:ext cx="3030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n-Monetary Reward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294920" y="1676160"/>
            <a:ext cx="4496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using Allowa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are Op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pense Accou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ension Schem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ree Trips / Holiday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4" name="Picture 2" descr="http://www.nicholsoncartoons.com.au/cartoons/new/2005-10-11%20Costello%20Turnbull%20tax%20plan%20226.jpg"/>
          <p:cNvPicPr/>
          <p:nvPr/>
        </p:nvPicPr>
        <p:blipFill>
          <a:blip r:embed="rId1"/>
          <a:stretch/>
        </p:blipFill>
        <p:spPr>
          <a:xfrm>
            <a:off x="5943600" y="3505320"/>
            <a:ext cx="3030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http://gospelgifs.com/clips/clipz4/images/kidz00a.gif"/>
          <p:cNvPicPr/>
          <p:nvPr/>
        </p:nvPicPr>
        <p:blipFill>
          <a:blip r:embed="rId1"/>
          <a:stretch/>
        </p:blipFill>
        <p:spPr>
          <a:xfrm>
            <a:off x="6024600" y="1600200"/>
            <a:ext cx="3119400" cy="236232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Job Satisfa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990360" y="1447920"/>
            <a:ext cx="5638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appy Work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mployees enjoy their work/job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re committed to their wor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ork more effective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tivated Positively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nhappy Work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or Manage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mployees treated bad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actors perceived bad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inge Benefits, Rate of Pa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8" name="Picture 4" descr="http://upload.wikimedia.org/wikipedia/commons/thumb/3/39/SMirC-sad.svg/320px-SMirC-sad.svg.png"/>
          <p:cNvPicPr/>
          <p:nvPr/>
        </p:nvPicPr>
        <p:blipFill>
          <a:blip r:embed="rId2"/>
          <a:stretch/>
        </p:blipFill>
        <p:spPr>
          <a:xfrm>
            <a:off x="6629400" y="43434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Job Satisfaction Idea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50" name="Picture 2" descr="http://ndn.newsweek.com/media/25/71014_MoneyHappiness_vl-vertical.jpg"/>
          <p:cNvPicPr/>
          <p:nvPr/>
        </p:nvPicPr>
        <p:blipFill>
          <a:blip r:embed="rId1"/>
          <a:stretch/>
        </p:blipFill>
        <p:spPr>
          <a:xfrm>
            <a:off x="1371600" y="1600200"/>
            <a:ext cx="1600200" cy="21495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6" descr="http://wwwdelivery.superstock.com/WI/223/1560/PreviewComp/SuperStock_1560R-2057552.jpg"/>
          <p:cNvPicPr/>
          <p:nvPr/>
        </p:nvPicPr>
        <p:blipFill>
          <a:blip r:embed="rId2"/>
          <a:stretch/>
        </p:blipFill>
        <p:spPr>
          <a:xfrm>
            <a:off x="4038480" y="1600200"/>
            <a:ext cx="1447920" cy="21477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8" descr="http://girlswork.det.nsw.edu.au/images/workprof.gif"/>
          <p:cNvPicPr/>
          <p:nvPr/>
        </p:nvPicPr>
        <p:blipFill>
          <a:blip r:embed="rId3"/>
          <a:stretch/>
        </p:blipFill>
        <p:spPr>
          <a:xfrm>
            <a:off x="6421320" y="1600200"/>
            <a:ext cx="1884600" cy="21337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0" descr="http://www.natuzzi.com/images/splash.jpg"/>
          <p:cNvPicPr/>
          <p:nvPr/>
        </p:nvPicPr>
        <p:blipFill>
          <a:blip r:embed="rId4"/>
          <a:stretch/>
        </p:blipFill>
        <p:spPr>
          <a:xfrm>
            <a:off x="1143000" y="4419720"/>
            <a:ext cx="2612880" cy="1523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2" descr="http://www.speakingchannel.tv/images/updated/insights_employees.jpg"/>
          <p:cNvPicPr/>
          <p:nvPr/>
        </p:nvPicPr>
        <p:blipFill>
          <a:blip r:embed="rId5"/>
          <a:stretch/>
        </p:blipFill>
        <p:spPr>
          <a:xfrm>
            <a:off x="4191120" y="4457880"/>
            <a:ext cx="1638360" cy="163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4" descr="http://www.biznet.org.uk/new%20images/working%20hours.jpg"/>
          <p:cNvPicPr/>
          <p:nvPr/>
        </p:nvPicPr>
        <p:blipFill>
          <a:blip r:embed="rId6"/>
          <a:srcRect l="0" t="0" r="13691" b="0"/>
          <a:stretch/>
        </p:blipFill>
        <p:spPr>
          <a:xfrm>
            <a:off x="6629400" y="4343400"/>
            <a:ext cx="1936800" cy="1676520"/>
          </a:xfrm>
          <a:prstGeom prst="rect">
            <a:avLst/>
          </a:prstGeom>
          <a:ln w="0">
            <a:noFill/>
          </a:ln>
        </p:spPr>
      </p:pic>
      <p:sp>
        <p:nvSpPr>
          <p:cNvPr id="456" name="TextBox 10"/>
          <p:cNvSpPr/>
          <p:nvPr/>
        </p:nvSpPr>
        <p:spPr>
          <a:xfrm>
            <a:off x="1143000" y="3809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2"/>
          <p:cNvSpPr/>
          <p:nvPr/>
        </p:nvSpPr>
        <p:spPr>
          <a:xfrm>
            <a:off x="3809880" y="38098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pportunity for 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13"/>
          <p:cNvSpPr/>
          <p:nvPr/>
        </p:nvSpPr>
        <p:spPr>
          <a:xfrm>
            <a:off x="6324480" y="38862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orking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14"/>
          <p:cNvSpPr/>
          <p:nvPr/>
        </p:nvSpPr>
        <p:spPr>
          <a:xfrm>
            <a:off x="1371600" y="6172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ringe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15"/>
          <p:cNvSpPr/>
          <p:nvPr/>
        </p:nvSpPr>
        <p:spPr>
          <a:xfrm>
            <a:off x="3962520" y="62485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mploye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16"/>
          <p:cNvSpPr/>
          <p:nvPr/>
        </p:nvSpPr>
        <p:spPr>
          <a:xfrm>
            <a:off x="6477120" y="6248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orking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Job Satisfa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63" name="Picture 2" descr="http://images.google.co.th/url?q=http://wwwdelivery.superstock.com/WI/223/1527/PreviewComp/SuperStock_1527R-1117135.jpg&amp;usg=AFQjCNEpSefbM-Pl2iZtPnQFmJkZUbMDfw"/>
          <p:cNvPicPr/>
          <p:nvPr/>
        </p:nvPicPr>
        <p:blipFill>
          <a:blip r:embed="rId1"/>
          <a:stretch/>
        </p:blipFill>
        <p:spPr>
          <a:xfrm>
            <a:off x="1295280" y="1447920"/>
            <a:ext cx="2265480" cy="19810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4" descr="http://lh5.ggpht.com/_Feojla9K-z4/R9UVXZyKT3I/AAAAAAAAC8o/s5T3iHBHcK4/IMG_1685.jpg"/>
          <p:cNvPicPr/>
          <p:nvPr/>
        </p:nvPicPr>
        <p:blipFill>
          <a:blip r:embed="rId2"/>
          <a:stretch/>
        </p:blipFill>
        <p:spPr>
          <a:xfrm>
            <a:off x="4191120" y="1295280"/>
            <a:ext cx="1600200" cy="21337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6" descr="http://www.uweb.ucsb.edu/~n_r_d/bill-gates.jpg"/>
          <p:cNvPicPr/>
          <p:nvPr/>
        </p:nvPicPr>
        <p:blipFill>
          <a:blip r:embed="rId3"/>
          <a:stretch/>
        </p:blipFill>
        <p:spPr>
          <a:xfrm>
            <a:off x="1600200" y="4000680"/>
            <a:ext cx="1676520" cy="20952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0" descr="http://lifeboat.com/images/responsibilities.jpg"/>
          <p:cNvPicPr/>
          <p:nvPr/>
        </p:nvPicPr>
        <p:blipFill>
          <a:blip r:embed="rId4"/>
          <a:stretch/>
        </p:blipFill>
        <p:spPr>
          <a:xfrm>
            <a:off x="6324480" y="10666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2" descr="http://asd.gmu.edu/eom/images/eom-guy.jpg"/>
          <p:cNvPicPr/>
          <p:nvPr/>
        </p:nvPicPr>
        <p:blipFill>
          <a:blip r:embed="rId5"/>
          <a:stretch/>
        </p:blipFill>
        <p:spPr>
          <a:xfrm>
            <a:off x="4038480" y="3887640"/>
            <a:ext cx="1905120" cy="22082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4" descr="http://www.ema-eda.com/images/training.jpg"/>
          <p:cNvPicPr/>
          <p:nvPr/>
        </p:nvPicPr>
        <p:blipFill>
          <a:blip r:embed="rId6"/>
          <a:stretch/>
        </p:blipFill>
        <p:spPr>
          <a:xfrm>
            <a:off x="6629400" y="3962520"/>
            <a:ext cx="1697040" cy="2209680"/>
          </a:xfrm>
          <a:prstGeom prst="rect">
            <a:avLst/>
          </a:prstGeom>
          <a:ln w="0">
            <a:noFill/>
          </a:ln>
        </p:spPr>
      </p:pic>
      <p:sp>
        <p:nvSpPr>
          <p:cNvPr id="469" name="TextBox 10"/>
          <p:cNvSpPr/>
          <p:nvPr/>
        </p:nvSpPr>
        <p:spPr>
          <a:xfrm>
            <a:off x="1295280" y="3581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lleag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1"/>
          <p:cNvSpPr/>
          <p:nvPr/>
        </p:nvSpPr>
        <p:spPr>
          <a:xfrm>
            <a:off x="3962520" y="35053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Nature of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2"/>
          <p:cNvSpPr/>
          <p:nvPr/>
        </p:nvSpPr>
        <p:spPr>
          <a:xfrm>
            <a:off x="6400800" y="35053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13"/>
          <p:cNvSpPr/>
          <p:nvPr/>
        </p:nvSpPr>
        <p:spPr>
          <a:xfrm>
            <a:off x="1295280" y="617220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ense of Achiev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4"/>
          <p:cNvSpPr/>
          <p:nvPr/>
        </p:nvSpPr>
        <p:spPr>
          <a:xfrm>
            <a:off x="3886200" y="6172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ecog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15"/>
          <p:cNvSpPr/>
          <p:nvPr/>
        </p:nvSpPr>
        <p:spPr>
          <a:xfrm>
            <a:off x="6477120" y="6248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5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9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creasing Job Satisfa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1434960" y="1523520"/>
            <a:ext cx="3657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Job Rot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orkers swap dut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cific Task for a period of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creases Varie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5276880" y="1523520"/>
            <a:ext cx="3657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sier for Managers to move workers for co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ES NOT make tasks more interes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78" name="Picture 2" descr="77594F6C"/>
          <p:cNvPicPr/>
          <p:nvPr/>
        </p:nvPicPr>
        <p:blipFill>
          <a:blip r:embed="rId1"/>
          <a:srcRect l="36959" t="11851" r="7606" b="73493"/>
          <a:stretch/>
        </p:blipFill>
        <p:spPr>
          <a:xfrm>
            <a:off x="1619280" y="4191120"/>
            <a:ext cx="6915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creasing Job Satisfa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434960" y="1523520"/>
            <a:ext cx="3657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Job Enlarge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tra Tas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ilar level of 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ed to job descrip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s variety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5276880" y="1523520"/>
            <a:ext cx="3657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Do no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 extra 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Do no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crease responsibi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82" name="Picture 2" descr="77594F6C"/>
          <p:cNvPicPr/>
          <p:nvPr/>
        </p:nvPicPr>
        <p:blipFill>
          <a:blip r:embed="rId1"/>
          <a:srcRect l="36959" t="36185" r="8506" b="46715"/>
          <a:stretch/>
        </p:blipFill>
        <p:spPr>
          <a:xfrm>
            <a:off x="2362320" y="4343400"/>
            <a:ext cx="556236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y do people work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142640" y="1447920"/>
            <a:ext cx="77914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oney is probably at the top of your list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Content Placeholder 2"/>
          <p:cNvSpPr/>
          <p:nvPr/>
        </p:nvSpPr>
        <p:spPr>
          <a:xfrm>
            <a:off x="3962520" y="2362320"/>
            <a:ext cx="4572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ther Reasons incl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ngsana New"/>
              </a:rPr>
              <a:t>To make new 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ngsana New"/>
              </a:rPr>
              <a:t>To have Job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ngsana New"/>
              </a:rPr>
              <a:t>Sense of Achievement /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ngsana New"/>
              </a:rPr>
              <a:t>Sense of 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ngsana New"/>
              </a:rPr>
              <a:t>Satisfying Amb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rcRect l="18983" t="29565" r="61364" b="11301"/>
          <a:stretch/>
        </p:blipFill>
        <p:spPr>
          <a:xfrm>
            <a:off x="1600200" y="2590920"/>
            <a:ext cx="1905120" cy="3582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"/>
          <p:cNvPicPr/>
          <p:nvPr/>
        </p:nvPicPr>
        <p:blipFill>
          <a:blip r:embed="rId2"/>
          <a:srcRect l="63169" t="17686" r="26087" b="41651"/>
          <a:stretch/>
        </p:blipFill>
        <p:spPr>
          <a:xfrm>
            <a:off x="152280" y="1219320"/>
            <a:ext cx="768600" cy="46479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4" descr=""/>
          <p:cNvPicPr/>
          <p:nvPr/>
        </p:nvPicPr>
        <p:blipFill>
          <a:blip r:embed="rId3"/>
          <a:srcRect l="41997" t="76605" r="16007" b="9959"/>
          <a:stretch/>
        </p:blipFill>
        <p:spPr>
          <a:xfrm>
            <a:off x="4267080" y="5943600"/>
            <a:ext cx="41911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creasing Job Satisfa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434960" y="1523520"/>
            <a:ext cx="3657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Job Enrich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 tasks with more skills / responsibi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itional Training may be need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designing job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5276880" y="1523520"/>
            <a:ext cx="3657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cope for fulfilling higher human nee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orkers more commit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aises Productiv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86" name="Picture 2" descr="77594F6C"/>
          <p:cNvPicPr/>
          <p:nvPr/>
        </p:nvPicPr>
        <p:blipFill>
          <a:blip r:embed="rId1"/>
          <a:srcRect l="36959" t="64740" r="9284" b="18162"/>
          <a:stretch/>
        </p:blipFill>
        <p:spPr>
          <a:xfrm>
            <a:off x="2133720" y="4114800"/>
            <a:ext cx="57909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2" descr="F639A45A"/>
          <p:cNvPicPr/>
          <p:nvPr/>
        </p:nvPicPr>
        <p:blipFill>
          <a:blip r:embed="rId1"/>
          <a:srcRect l="25198" t="40310" r="32806" b="42591"/>
          <a:stretch/>
        </p:blipFill>
        <p:spPr>
          <a:xfrm>
            <a:off x="1066680" y="3276720"/>
            <a:ext cx="4899240" cy="274320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creasing Job Satisfa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434960" y="1523520"/>
            <a:ext cx="3657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Autonomous Work Groups &amp; Teamwork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roup given responsibility for a particular process, product or develop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cid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w to complete the tas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rganize job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0" dur="2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4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9" dur="2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F639A45A"/>
          <p:cNvPicPr/>
          <p:nvPr/>
        </p:nvPicPr>
        <p:blipFill>
          <a:blip r:embed="rId1"/>
          <a:srcRect l="25198" t="40310" r="32806" b="42591"/>
          <a:stretch/>
        </p:blipFill>
        <p:spPr>
          <a:xfrm>
            <a:off x="1066680" y="3276720"/>
            <a:ext cx="4899240" cy="27432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creasing Job Satisfa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434960" y="1523520"/>
            <a:ext cx="3657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Autonomous Work Groups &amp; Teamwork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5276880" y="1523520"/>
            <a:ext cx="3657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ork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involv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cision mak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ponsibi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– jobs &amp; tas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committe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otivating Factors at all Level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96" name="Picture 2" descr="F639A45A"/>
          <p:cNvPicPr/>
          <p:nvPr/>
        </p:nvPicPr>
        <p:blipFill>
          <a:blip r:embed="rId1"/>
          <a:srcRect l="16799" t="58267" r="22726" b="20968"/>
          <a:stretch/>
        </p:blipFill>
        <p:spPr>
          <a:xfrm>
            <a:off x="1371600" y="1676520"/>
            <a:ext cx="73915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otiv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920"/>
            <a:ext cx="7499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’s the reason why employees want to work hard and work effectively for the busines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Content Placeholder 2"/>
          <p:cNvSpPr/>
          <p:nvPr/>
        </p:nvSpPr>
        <p:spPr>
          <a:xfrm>
            <a:off x="1371600" y="5867280"/>
            <a:ext cx="7497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Employees are a firm’s greatest ass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B8DDBA5E"/>
          <p:cNvPicPr/>
          <p:nvPr/>
        </p:nvPicPr>
        <p:blipFill>
          <a:blip r:embed="rId1"/>
          <a:srcRect l="0" t="4420" r="5925" b="7191"/>
          <a:stretch/>
        </p:blipFill>
        <p:spPr>
          <a:xfrm>
            <a:off x="1828800" y="3200400"/>
            <a:ext cx="6400800" cy="2286000"/>
          </a:xfrm>
          <a:prstGeom prst="rect">
            <a:avLst/>
          </a:prstGeom>
          <a:ln w="63360">
            <a:solidFill>
              <a:srgbClr val="967d4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otivational Theori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Peopl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work for themselv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ork hard &amp; effectively becau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340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see the direct benefits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People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working for someone els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y not work as hard or effectively as a resul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340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not seeing THEIR benefi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Task of Manage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Needed for success of the busine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otivational Theori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4" name="Picture 2" descr="http://upload.wikimedia.org/wikipedia/commons/thumb/9/90/Frederick_Winslow_Taylor_crop.jpg/200px-Frederick_Winslow_Taylor_cro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2438280"/>
            <a:ext cx="1682640" cy="2514600"/>
          </a:xfrm>
          <a:prstGeom prst="rect">
            <a:avLst/>
          </a:prstGeom>
          <a:ln w="0">
            <a:noFill/>
          </a:ln>
        </p:spPr>
      </p:pic>
      <p:sp>
        <p:nvSpPr>
          <p:cNvPr id="345" name="TextBox 4"/>
          <p:cNvSpPr/>
          <p:nvPr/>
        </p:nvSpPr>
        <p:spPr>
          <a:xfrm>
            <a:off x="1143000" y="51055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ay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" descr="http://www.trans4mind.com/mind-development/maslow.jpg"/>
          <p:cNvPicPr/>
          <p:nvPr/>
        </p:nvPicPr>
        <p:blipFill>
          <a:blip r:embed="rId3"/>
          <a:stretch/>
        </p:blipFill>
        <p:spPr>
          <a:xfrm>
            <a:off x="2954160" y="2438280"/>
            <a:ext cx="1979640" cy="2514600"/>
          </a:xfrm>
          <a:prstGeom prst="rect">
            <a:avLst/>
          </a:prstGeom>
          <a:ln w="0">
            <a:noFill/>
          </a:ln>
        </p:spPr>
      </p:pic>
      <p:sp>
        <p:nvSpPr>
          <p:cNvPr id="347" name="TextBox 6"/>
          <p:cNvSpPr/>
          <p:nvPr/>
        </p:nvSpPr>
        <p:spPr>
          <a:xfrm>
            <a:off x="2938320" y="51055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s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4"/>
          <a:stretch/>
        </p:blipFill>
        <p:spPr>
          <a:xfrm>
            <a:off x="4906800" y="2476440"/>
            <a:ext cx="1959120" cy="2438640"/>
          </a:xfrm>
          <a:prstGeom prst="rect">
            <a:avLst/>
          </a:prstGeom>
          <a:ln w="0">
            <a:noFill/>
          </a:ln>
        </p:spPr>
      </p:pic>
      <p:sp>
        <p:nvSpPr>
          <p:cNvPr id="349" name="TextBox 10"/>
          <p:cNvSpPr/>
          <p:nvPr/>
        </p:nvSpPr>
        <p:spPr>
          <a:xfrm>
            <a:off x="4808520" y="51055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rzbe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Content Placeholder 11" descr=""/>
          <p:cNvPicPr/>
          <p:nvPr/>
        </p:nvPicPr>
        <p:blipFill>
          <a:blip r:embed="rId5"/>
          <a:stretch/>
        </p:blipFill>
        <p:spPr>
          <a:xfrm>
            <a:off x="6865920" y="2523960"/>
            <a:ext cx="1897200" cy="2391120"/>
          </a:xfrm>
          <a:prstGeom prst="rect">
            <a:avLst/>
          </a:prstGeom>
          <a:ln w="0">
            <a:noFill/>
          </a:ln>
        </p:spPr>
      </p:pic>
      <p:sp>
        <p:nvSpPr>
          <p:cNvPr id="351" name="TextBox 12"/>
          <p:cNvSpPr/>
          <p:nvPr/>
        </p:nvSpPr>
        <p:spPr>
          <a:xfrm>
            <a:off x="7315200" y="5135400"/>
            <a:ext cx="121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oc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3"/>
          <p:cNvSpPr/>
          <p:nvPr/>
        </p:nvSpPr>
        <p:spPr>
          <a:xfrm>
            <a:off x="1371600" y="5659560"/>
            <a:ext cx="71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911                       1954                    1959                         19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.W.  Tayl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657600" y="1447560"/>
            <a:ext cx="5276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arted as a Factory Labourer in America in the 1880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ose to Chief Engine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ducted Experiments on how Labour Productivity could be increas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vised Piece Rate system to increase productiv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5" name="Picture 2" descr="http://upload.wikimedia.org/wikipedia/commons/thumb/9/90/Frederick_Winslow_Taylor_crop.jpg/200px-Frederick_Winslow_Taylor_cro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905120"/>
            <a:ext cx="24969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.W. Taylor’s Assumpti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143000" y="144756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ssumption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l individuals are motivated by personal gain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at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aid mor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dividuals work more effectivel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8" name="Picture 2" descr="http://www.nps.gov/edis/edisonia/graphics/29410116.jpg"/>
          <p:cNvPicPr/>
          <p:nvPr/>
        </p:nvPicPr>
        <p:blipFill>
          <a:blip r:embed="rId1"/>
          <a:stretch/>
        </p:blipFill>
        <p:spPr>
          <a:xfrm>
            <a:off x="5410080" y="2209680"/>
            <a:ext cx="354816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aslow’s Hierarchy of Needs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60" name="Picture 4" descr=""/>
          <p:cNvPicPr/>
          <p:nvPr/>
        </p:nvPicPr>
        <p:blipFill>
          <a:blip r:embed="rId1"/>
          <a:stretch/>
        </p:blipFill>
        <p:spPr>
          <a:xfrm>
            <a:off x="1295280" y="1479600"/>
            <a:ext cx="7637760" cy="49975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http://www.trans4mind.com/mind-development/maslow.jpg"/>
          <p:cNvPicPr/>
          <p:nvPr/>
        </p:nvPicPr>
        <p:blipFill>
          <a:blip r:embed="rId2"/>
          <a:stretch/>
        </p:blipFill>
        <p:spPr>
          <a:xfrm>
            <a:off x="1447920" y="1554120"/>
            <a:ext cx="129528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Ernest Reichelt</dc:creator>
  <dc:description/>
  <dc:language>en-US</dc:language>
  <cp:lastModifiedBy>Ernest Reichelt</cp:lastModifiedBy>
  <dcterms:modified xsi:type="dcterms:W3CDTF">2013-06-21T01:07:10Z</dcterms:modified>
  <cp:revision>275</cp:revision>
  <dc:subject/>
  <dc:title>Unit 5 – People and Work</dc:title>
</cp:coreProperties>
</file>